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8C2-33C2-473A-B8BF-71A8038C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691-D1C2-46A1-9E77-7A68524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1B0-1791-42FF-9FDB-A930F903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DA3-6EBC-4BC7-B372-8694FDED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399-FF5B-487D-91D4-C3F660A2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796-E42A-4066-B228-74AF052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7E7-B569-4F54-A36B-19AB2F6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FBE-BD15-4D69-9211-D5F1987F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95F-AB3A-48E5-81DB-C4B9E594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1F1-35D1-48CB-937F-03E43372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109-899D-4A73-BF49-3BB2D49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110-C6D2-44D5-937B-6FAF35E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AB2B-FE43-460A-AF29-DA92022B1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blood from the body travels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k to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ood from the head and neck enter the heart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vena c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blood from the rest of body enters the heart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vena c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y reach the heart they combine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 at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838080"/>
            <a:ext cx="8991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heart beats blood is squeezed down in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cuspid va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beats again the blood travels fro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art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8991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heart beats the blood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ushed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v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atr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beats again the blood travels fro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atr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w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ventr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ral va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when the heart beats again blood is pushed out of the heart to the body’s tissues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o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orta is the largest blood vessel, and has thick walls to absorb the high pressure blood is under when it leaves the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orta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y the blood to the body’s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2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35:35Z</dcterms:created>
  <dc:creator>AISD</dc:creator>
  <dc:description/>
  <dc:language>en-US</dc:language>
  <cp:lastModifiedBy>AISD</cp:lastModifiedBy>
  <dcterms:modified xsi:type="dcterms:W3CDTF">2010-04-21T20:32:41Z</dcterms:modified>
  <cp:revision>3</cp:revision>
  <dc:subject/>
  <dc:title>The Anatomy of the Human Heart</dc:title>
</cp:coreProperties>
</file>